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396-316F-4098-8F4A-91FDBA32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EEF-ADFA-488F-9AF3-65FC26C2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6C8-67D6-44F0-A492-4F5DE52C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6F7-B78A-4D92-8DD5-F9D1C2AD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097-9D7E-47D5-BBBA-DAB9C267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372-DE44-428E-A2CA-A09AE77F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E3F-B6EC-46FE-8523-BDAD1E0F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6DB-D64F-4D3B-A734-B7CE95C4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D54-E4BB-40AD-B074-B116E201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3CD-9048-402C-A327-478A9F4D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6C57-0D0D-4CE4-A91B-E30FF18E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AD3-10BD-4FF2-9E65-EE001D3B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5E4A-644B-45EC-98C6-BB62AC9B94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302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2:18:29Z</dcterms:created>
  <dc:creator>1</dc:creator>
  <dc:description/>
  <dc:language>en-US</dc:language>
  <cp:lastModifiedBy>Элеонора</cp:lastModifiedBy>
  <dcterms:modified xsi:type="dcterms:W3CDTF">2013-01-24T14:50:11Z</dcterms:modified>
  <cp:revision>1</cp:revision>
  <dc:subject/>
  <dc:title>Слайд 1</dc:title>
</cp:coreProperties>
</file>